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beam2.wav" ContentType="audio/x-wav"/>
  <Override PartName="/ppt/media/image12.png" ContentType="image/png"/>
  <Override PartName="/ppt/media/image7.png" ContentType="image/png"/>
  <Override PartName="/ppt/media/image1.png" ContentType="image/png"/>
  <Override PartName="/ppt/media/image2.png" ContentType="image/png"/>
  <Override PartName="/ppt/media/sparcle.wav" ContentType="audio/x-wav"/>
  <Override PartName="/ppt/media/image6.png" ContentType="image/png"/>
  <Override PartName="/ppt/media/image11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applause.wav" ContentType="audio/x-wav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38320" y="763200"/>
            <a:ext cx="5486400" cy="37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6384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420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0" y="9555120"/>
            <a:ext cx="336384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420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C18277-0FE0-418C-8191-AFB52B4842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138320" y="763560"/>
            <a:ext cx="5489640" cy="376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38320" y="763560"/>
            <a:ext cx="549576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138320" y="763560"/>
            <a:ext cx="549252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138320" y="763560"/>
            <a:ext cx="549576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138320" y="763560"/>
            <a:ext cx="549576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38320" y="763560"/>
            <a:ext cx="549576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138320" y="763560"/>
            <a:ext cx="549576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38320" y="763560"/>
            <a:ext cx="549576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138320" y="763560"/>
            <a:ext cx="5491080" cy="37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65F8-5683-4DBA-9B60-76F75F15B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6968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F198-AC21-459C-945F-B141B6C8C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620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1600-F2AF-473B-8F68-F80D21C08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52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048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52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048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3B57-DDD5-4C00-B3BC-449F8DF43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7D56-53D6-49BF-B94D-7150853C8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90D5-6D4C-4A6F-90A9-A83275422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E520-E942-49F1-9099-483826410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2CFB-D3BC-4087-9A39-C7469A4AA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B4E3-68C3-47B4-82EA-62163C733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A72F-D145-4566-909D-E1CCC27D0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620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33E9-CED1-46BE-9521-C1C3FB2E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2EBE-6297-451B-8560-CBEFA2D8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76000" y="688644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860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CCCE98-F4A7-4F5A-BCA6-AFD02BAD86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sparcle.wav"/><Relationship Id="rId4" Type="http://schemas.openxmlformats.org/officeDocument/2006/relationships/slideLayout" Target="../slideLayouts/slideLayout4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audio" Target="../media/beam2.wav"/><Relationship Id="rId9" Type="http://schemas.openxmlformats.org/officeDocument/2006/relationships/slideLayout" Target="../slideLayouts/slideLayout4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audio" Target="../media/sparcle.wav"/><Relationship Id="rId9" Type="http://schemas.openxmlformats.org/officeDocument/2006/relationships/slideLayout" Target="../slideLayouts/slideLayout4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audio" Target="../media/sparcle.wav"/><Relationship Id="rId4" Type="http://schemas.openxmlformats.org/officeDocument/2006/relationships/slideLayout" Target="../slideLayouts/slideLayout4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audio" Target="../media/sparcle.wav"/><Relationship Id="rId5" Type="http://schemas.openxmlformats.org/officeDocument/2006/relationships/slideLayout" Target="../slideLayouts/slideLayout4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sparcle.wav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828800" y="2286000"/>
            <a:ext cx="8458200" cy="3886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</a:rPr>
              <a:t>Team green frogs 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03360" y="186840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Q: How do hurricanes get their name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257800" y="1828800"/>
            <a:ext cx="442584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t">
            <a:normAutofit/>
          </a:bodyPr>
          <a:p>
            <a:pPr marL="422280" indent="-317520">
              <a:lnSpc>
                <a:spcPct val="90000"/>
              </a:lnSpc>
              <a:spcAft>
                <a:spcPts val="1426"/>
              </a:spcAft>
              <a:buClr>
                <a:srgbClr val="333333"/>
              </a:buClr>
              <a:buSzPct val="45000"/>
              <a:buFont typeface="Wingdings" charset="2"/>
              <a:buChar char=""/>
              <a:tabLst>
                <a:tab algn="l" pos="422280"/>
                <a:tab algn="l" pos="534960"/>
                <a:tab algn="l" pos="992160"/>
                <a:tab algn="l" pos="1449360"/>
                <a:tab algn="l" pos="1906560"/>
                <a:tab algn="l" pos="2363760"/>
                <a:tab algn="l" pos="2820960"/>
                <a:tab algn="l" pos="3278160"/>
                <a:tab algn="l" pos="3735360"/>
                <a:tab algn="l" pos="4192560"/>
                <a:tab algn="l" pos="4649760"/>
                <a:tab algn="l" pos="5106960"/>
                <a:tab algn="l" pos="5564160"/>
                <a:tab algn="l" pos="6021360"/>
                <a:tab algn="l" pos="6478560"/>
                <a:tab algn="l" pos="6935760"/>
                <a:tab algn="l" pos="7392960"/>
                <a:tab algn="l" pos="7850160"/>
                <a:tab algn="l" pos="8307360"/>
                <a:tab algn="l" pos="8764560"/>
                <a:tab algn="l" pos="9221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dcff"/>
                </a:solidFill>
                <a:latin typeface="Times New Roman"/>
              </a:rPr>
              <a:t>The National Hurricane center is in charge of naming hurricanes &amp; tropical storms. They create a list of names for each season to more easily identify the hurricane being follow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85800" y="3200400"/>
            <a:ext cx="4800600" cy="43434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3200400" y="228600"/>
            <a:ext cx="3600360" cy="180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74574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33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Arial Black"/>
              </a:rPr>
              <a:t>Hurricane Project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33"/>
                  </a:gs>
                  <a:gs pos="100000">
                    <a:srgbClr val="ffff66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 spd="med">
    <p:randomBar dir="horz"/>
    <p:sndAc>
      <p:stSnd>
        <p:snd r:embed="rId3" name="sparcl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03280" y="456840"/>
            <a:ext cx="4424400" cy="622764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Q:how to prepare for a hurrican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149800" y="457200"/>
            <a:ext cx="4424400" cy="640728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t">
            <a:normAutofit fontScale="99000"/>
          </a:bodyPr>
          <a:p>
            <a:pPr marL="3394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dcff"/>
                </a:solidFill>
                <a:latin typeface="Times New Roman"/>
              </a:rPr>
              <a:t>*Get your family together in pl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dcff"/>
                </a:solidFill>
                <a:latin typeface="Times New Roman"/>
              </a:rPr>
              <a:t>*Prepare  your food suppl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dcff"/>
                </a:solidFill>
                <a:latin typeface="Times New Roman"/>
              </a:rPr>
              <a:t>*Secure your home &amp; proper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dcff"/>
                </a:solidFill>
                <a:latin typeface="Times New Roman"/>
              </a:rPr>
              <a:t>*Insurance 1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dcff"/>
                </a:solidFill>
                <a:latin typeface="Times New Roman"/>
              </a:rPr>
              <a:t>*Special assist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dcff"/>
                </a:solidFill>
                <a:latin typeface="Times New Roman"/>
              </a:rPr>
              <a:t>*If your home is safe stay p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dcff"/>
                </a:solidFill>
                <a:latin typeface="Times New Roman"/>
              </a:rPr>
              <a:t>*What to do when the storm hi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85800" y="16002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971800" y="1371600"/>
            <a:ext cx="1600200" cy="2286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457200" y="3886200"/>
            <a:ext cx="2057400" cy="1143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2676600" y="3886200"/>
            <a:ext cx="1666800" cy="1143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457200" y="5257800"/>
            <a:ext cx="1428840" cy="13716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7"/>
          <a:stretch/>
        </p:blipFill>
        <p:spPr>
          <a:xfrm>
            <a:off x="2103480" y="5138640"/>
            <a:ext cx="1554120" cy="10335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  <p:sndAc>
      <p:stSnd>
        <p:snd r:embed="rId8" name="beam2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603360" y="456840"/>
            <a:ext cx="4425840" cy="501012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Q:how to prepare for a hurrican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257800" y="228240"/>
            <a:ext cx="4425840" cy="666108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t">
            <a:normAutofit/>
          </a:bodyPr>
          <a:p>
            <a:pPr marL="422280" indent="-317520">
              <a:lnSpc>
                <a:spcPct val="90000"/>
              </a:lnSpc>
              <a:spcAft>
                <a:spcPts val="1426"/>
              </a:spcAft>
              <a:buClr>
                <a:srgbClr val="333333"/>
              </a:buClr>
              <a:buSzPct val="45000"/>
              <a:buFont typeface="Wingdings" charset="2"/>
              <a:buChar char=""/>
              <a:tabLst>
                <a:tab algn="l" pos="422280"/>
                <a:tab algn="l" pos="534960"/>
                <a:tab algn="l" pos="992160"/>
                <a:tab algn="l" pos="1449360"/>
                <a:tab algn="l" pos="1906560"/>
                <a:tab algn="l" pos="2363760"/>
                <a:tab algn="l" pos="2820960"/>
                <a:tab algn="l" pos="3278160"/>
                <a:tab algn="l" pos="3735360"/>
                <a:tab algn="l" pos="4192560"/>
                <a:tab algn="l" pos="4649760"/>
                <a:tab algn="l" pos="5106960"/>
                <a:tab algn="l" pos="5564160"/>
                <a:tab algn="l" pos="6021360"/>
                <a:tab algn="l" pos="6478560"/>
                <a:tab algn="l" pos="6935760"/>
                <a:tab algn="l" pos="7392960"/>
                <a:tab algn="l" pos="7850160"/>
                <a:tab algn="l" pos="8307360"/>
                <a:tab algn="l" pos="8764560"/>
                <a:tab algn="l" pos="9221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dcff"/>
                </a:solidFill>
                <a:latin typeface="Times New Roman"/>
              </a:rPr>
              <a:t>Get your family together in pl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22280" indent="-317520">
              <a:lnSpc>
                <a:spcPct val="90000"/>
              </a:lnSpc>
              <a:spcAft>
                <a:spcPts val="1426"/>
              </a:spcAft>
              <a:buClr>
                <a:srgbClr val="333333"/>
              </a:buClr>
              <a:buSzPct val="45000"/>
              <a:buFont typeface="Wingdings" charset="2"/>
              <a:buChar char=""/>
              <a:tabLst>
                <a:tab algn="l" pos="422280"/>
                <a:tab algn="l" pos="534960"/>
                <a:tab algn="l" pos="992160"/>
                <a:tab algn="l" pos="1449360"/>
                <a:tab algn="l" pos="1906560"/>
                <a:tab algn="l" pos="2363760"/>
                <a:tab algn="l" pos="2820960"/>
                <a:tab algn="l" pos="3278160"/>
                <a:tab algn="l" pos="3735360"/>
                <a:tab algn="l" pos="4192560"/>
                <a:tab algn="l" pos="4649760"/>
                <a:tab algn="l" pos="5106960"/>
                <a:tab algn="l" pos="5564160"/>
                <a:tab algn="l" pos="6021360"/>
                <a:tab algn="l" pos="6478560"/>
                <a:tab algn="l" pos="6935760"/>
                <a:tab algn="l" pos="7392960"/>
                <a:tab algn="l" pos="7850160"/>
                <a:tab algn="l" pos="8307360"/>
                <a:tab algn="l" pos="8764560"/>
                <a:tab algn="l" pos="9221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dcff"/>
                </a:solidFill>
                <a:latin typeface="Times New Roman"/>
              </a:rPr>
              <a:t>Prepare  your food suppl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22280" indent="-317520">
              <a:lnSpc>
                <a:spcPct val="90000"/>
              </a:lnSpc>
              <a:spcAft>
                <a:spcPts val="1426"/>
              </a:spcAft>
              <a:buClr>
                <a:srgbClr val="333333"/>
              </a:buClr>
              <a:buSzPct val="45000"/>
              <a:buFont typeface="Wingdings" charset="2"/>
              <a:buChar char=""/>
              <a:tabLst>
                <a:tab algn="l" pos="422280"/>
                <a:tab algn="l" pos="534960"/>
                <a:tab algn="l" pos="992160"/>
                <a:tab algn="l" pos="1449360"/>
                <a:tab algn="l" pos="1906560"/>
                <a:tab algn="l" pos="2363760"/>
                <a:tab algn="l" pos="2820960"/>
                <a:tab algn="l" pos="3278160"/>
                <a:tab algn="l" pos="3735360"/>
                <a:tab algn="l" pos="4192560"/>
                <a:tab algn="l" pos="4649760"/>
                <a:tab algn="l" pos="5106960"/>
                <a:tab algn="l" pos="5564160"/>
                <a:tab algn="l" pos="6021360"/>
                <a:tab algn="l" pos="6478560"/>
                <a:tab algn="l" pos="6935760"/>
                <a:tab algn="l" pos="7392960"/>
                <a:tab algn="l" pos="7850160"/>
                <a:tab algn="l" pos="8307360"/>
                <a:tab algn="l" pos="8764560"/>
                <a:tab algn="l" pos="9221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dcff"/>
                </a:solidFill>
                <a:latin typeface="Times New Roman"/>
              </a:rPr>
              <a:t>Secure your home &amp; proper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22280" indent="-317520">
              <a:lnSpc>
                <a:spcPct val="90000"/>
              </a:lnSpc>
              <a:spcAft>
                <a:spcPts val="1426"/>
              </a:spcAft>
              <a:buClr>
                <a:srgbClr val="333333"/>
              </a:buClr>
              <a:buSzPct val="45000"/>
              <a:buFont typeface="Wingdings" charset="2"/>
              <a:buChar char=""/>
              <a:tabLst>
                <a:tab algn="l" pos="422280"/>
                <a:tab algn="l" pos="534960"/>
                <a:tab algn="l" pos="992160"/>
                <a:tab algn="l" pos="1449360"/>
                <a:tab algn="l" pos="1906560"/>
                <a:tab algn="l" pos="2363760"/>
                <a:tab algn="l" pos="2820960"/>
                <a:tab algn="l" pos="3278160"/>
                <a:tab algn="l" pos="3735360"/>
                <a:tab algn="l" pos="4192560"/>
                <a:tab algn="l" pos="4649760"/>
                <a:tab algn="l" pos="5106960"/>
                <a:tab algn="l" pos="5564160"/>
                <a:tab algn="l" pos="6021360"/>
                <a:tab algn="l" pos="6478560"/>
                <a:tab algn="l" pos="6935760"/>
                <a:tab algn="l" pos="7392960"/>
                <a:tab algn="l" pos="7850160"/>
                <a:tab algn="l" pos="8307360"/>
                <a:tab algn="l" pos="8764560"/>
                <a:tab algn="l" pos="9221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dcff"/>
                </a:solidFill>
                <a:latin typeface="Times New Roman"/>
              </a:rPr>
              <a:t>Insurance 1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22280" indent="-317520">
              <a:lnSpc>
                <a:spcPct val="90000"/>
              </a:lnSpc>
              <a:spcAft>
                <a:spcPts val="1426"/>
              </a:spcAft>
              <a:buClr>
                <a:srgbClr val="333333"/>
              </a:buClr>
              <a:buSzPct val="45000"/>
              <a:buFont typeface="Wingdings" charset="2"/>
              <a:buChar char=""/>
              <a:tabLst>
                <a:tab algn="l" pos="422280"/>
                <a:tab algn="l" pos="534960"/>
                <a:tab algn="l" pos="992160"/>
                <a:tab algn="l" pos="1449360"/>
                <a:tab algn="l" pos="1906560"/>
                <a:tab algn="l" pos="2363760"/>
                <a:tab algn="l" pos="2820960"/>
                <a:tab algn="l" pos="3278160"/>
                <a:tab algn="l" pos="3735360"/>
                <a:tab algn="l" pos="4192560"/>
                <a:tab algn="l" pos="4649760"/>
                <a:tab algn="l" pos="5106960"/>
                <a:tab algn="l" pos="5564160"/>
                <a:tab algn="l" pos="6021360"/>
                <a:tab algn="l" pos="6478560"/>
                <a:tab algn="l" pos="6935760"/>
                <a:tab algn="l" pos="7392960"/>
                <a:tab algn="l" pos="7850160"/>
                <a:tab algn="l" pos="8307360"/>
                <a:tab algn="l" pos="8764560"/>
                <a:tab algn="l" pos="9221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dcff"/>
                </a:solidFill>
                <a:latin typeface="Times New Roman"/>
              </a:rPr>
              <a:t>Special assist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22280" indent="-317520">
              <a:lnSpc>
                <a:spcPct val="90000"/>
              </a:lnSpc>
              <a:spcAft>
                <a:spcPts val="1426"/>
              </a:spcAft>
              <a:buClr>
                <a:srgbClr val="333333"/>
              </a:buClr>
              <a:buSzPct val="45000"/>
              <a:buFont typeface="Wingdings" charset="2"/>
              <a:buChar char=""/>
              <a:tabLst>
                <a:tab algn="l" pos="422280"/>
                <a:tab algn="l" pos="534960"/>
                <a:tab algn="l" pos="992160"/>
                <a:tab algn="l" pos="1449360"/>
                <a:tab algn="l" pos="1906560"/>
                <a:tab algn="l" pos="2363760"/>
                <a:tab algn="l" pos="2820960"/>
                <a:tab algn="l" pos="3278160"/>
                <a:tab algn="l" pos="3735360"/>
                <a:tab algn="l" pos="4192560"/>
                <a:tab algn="l" pos="4649760"/>
                <a:tab algn="l" pos="5106960"/>
                <a:tab algn="l" pos="5564160"/>
                <a:tab algn="l" pos="6021360"/>
                <a:tab algn="l" pos="6478560"/>
                <a:tab algn="l" pos="6935760"/>
                <a:tab algn="l" pos="7392960"/>
                <a:tab algn="l" pos="7850160"/>
                <a:tab algn="l" pos="8307360"/>
                <a:tab algn="l" pos="8764560"/>
                <a:tab algn="l" pos="9221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dcff"/>
                </a:solidFill>
                <a:latin typeface="Times New Roman"/>
              </a:rPr>
              <a:t>If your home is safe stay p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22280" indent="-317520">
              <a:lnSpc>
                <a:spcPct val="90000"/>
              </a:lnSpc>
              <a:spcAft>
                <a:spcPts val="1426"/>
              </a:spcAft>
              <a:buClr>
                <a:srgbClr val="333333"/>
              </a:buClr>
              <a:buSzPct val="45000"/>
              <a:buFont typeface="Wingdings" charset="2"/>
              <a:buChar char=""/>
              <a:tabLst>
                <a:tab algn="l" pos="422280"/>
                <a:tab algn="l" pos="534960"/>
                <a:tab algn="l" pos="992160"/>
                <a:tab algn="l" pos="1449360"/>
                <a:tab algn="l" pos="1906560"/>
                <a:tab algn="l" pos="2363760"/>
                <a:tab algn="l" pos="2820960"/>
                <a:tab algn="l" pos="3278160"/>
                <a:tab algn="l" pos="3735360"/>
                <a:tab algn="l" pos="4192560"/>
                <a:tab algn="l" pos="4649760"/>
                <a:tab algn="l" pos="5106960"/>
                <a:tab algn="l" pos="5564160"/>
                <a:tab algn="l" pos="6021360"/>
                <a:tab algn="l" pos="6478560"/>
                <a:tab algn="l" pos="6935760"/>
                <a:tab algn="l" pos="7392960"/>
                <a:tab algn="l" pos="7850160"/>
                <a:tab algn="l" pos="8307360"/>
                <a:tab algn="l" pos="8764560"/>
                <a:tab algn="l" pos="9221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dcff"/>
                </a:solidFill>
                <a:latin typeface="Times New Roman"/>
              </a:rPr>
              <a:t>What to do when the storm hi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85800" y="16002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457200" y="3886200"/>
            <a:ext cx="2057400" cy="1143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2676600" y="3886200"/>
            <a:ext cx="1666800" cy="1143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457200" y="5257800"/>
            <a:ext cx="1428840" cy="13716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6"/>
          <a:stretch/>
        </p:blipFill>
        <p:spPr>
          <a:xfrm>
            <a:off x="2103480" y="5138640"/>
            <a:ext cx="1554120" cy="10335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7"/>
          <a:stretch/>
        </p:blipFill>
        <p:spPr>
          <a:xfrm>
            <a:off x="3886200" y="54864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  <p:sndAc>
      <p:stSnd>
        <p:snd r:embed="rId8" name="sparcl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5257800" y="228600"/>
            <a:ext cx="4424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You will need a radio,a plan of evacuation, water, food, a first aid kit, flashlight,cash, generator, medicine, non electric can opener &amp; sturdy sho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914400" y="3886200"/>
            <a:ext cx="6629400" cy="32162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85800" y="228600"/>
            <a:ext cx="4424400" cy="50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60480" bIns="0" anchor="t">
            <a:noAutofit/>
          </a:bodyPr>
          <a:p>
            <a:pPr>
              <a:lnSpc>
                <a:spcPct val="90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Times New Roman"/>
                <a:ea typeface="Arial Unicode MS"/>
              </a:rPr>
              <a:t>Q: What supplies do we need to get prepared for a hurrica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  <p:sndAc>
      <p:stSnd>
        <p:snd r:embed="rId3" name="sparcl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03360" y="358920"/>
            <a:ext cx="442584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: What sort of damage can a hurricanes d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486400" y="457200"/>
            <a:ext cx="442584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Hurricanes can destroy anything in there path like cars, houses, windows, can also kill organisms &amp; environments They could also wipe out c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029200" y="4800600"/>
            <a:ext cx="3200400" cy="2286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685800" y="1600200"/>
            <a:ext cx="3886200" cy="20574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257800" y="6942240"/>
            <a:ext cx="476568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4343400"/>
            <a:ext cx="45385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ve:this is the worst, winds blow 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ast 155 mph.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01480" y="3886200"/>
            <a:ext cx="4527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94476b"/>
                </a:solidFill>
                <a:latin typeface="Arial"/>
              </a:rPr>
              <a:t>This is category 5 of a hurricane</a:t>
            </a:r>
            <a:r>
              <a:rPr b="1" lang="en-US" sz="1800" spc="-1" strike="noStrike">
                <a:solidFill>
                  <a:srgbClr val="94476b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  <p:sndAc>
      <p:stSnd>
        <p:snd r:embed="rId4" name="sparcl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8316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Times New Roman"/>
              </a:rPr>
              <a:t>Credit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ctr">
            <a:no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23ff23"/>
                </a:solidFill>
                <a:latin typeface="Times New Roman"/>
              </a:rPr>
              <a:t>Ask ki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23ff23"/>
                </a:solidFill>
                <a:latin typeface="Times New Roman"/>
              </a:rPr>
              <a:t>Safe Search for Ki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23ff23"/>
                </a:solidFill>
                <a:latin typeface="Times New Roman"/>
              </a:rPr>
              <a:t>Google/Yaho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23ff23"/>
                </a:solidFill>
                <a:latin typeface="Times New Roman"/>
              </a:rPr>
              <a:t>Fact Mons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23ff23"/>
                </a:solidFill>
                <a:latin typeface="Times New Roman"/>
              </a:rPr>
              <a:t>Quintura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23ff23"/>
                </a:solidFill>
                <a:latin typeface="Times New Roman"/>
              </a:rPr>
              <a:t>Dib Dab Doo and Dilly To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trips dir="ld"/>
    <p:sndAc>
      <p:stSnd>
        <p:snd r:embed="rId2" name="sparcl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ctr">
            <a:no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3200" spc="-1" strike="noStrike">
                <a:solidFill>
                  <a:srgbClr val="23ff23"/>
                </a:solidFill>
                <a:latin typeface="Times New Roman"/>
              </a:rPr>
              <a:t>BY TEAM GREEN FROG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23ff23"/>
                </a:solidFill>
                <a:latin typeface="Times New Roman"/>
              </a:rPr>
              <a:t>Christina Coron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23ff23"/>
                </a:solidFill>
                <a:latin typeface="Times New Roman"/>
              </a:rPr>
              <a:t>Jennifer Garc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23ff23"/>
                </a:solidFill>
                <a:latin typeface="Times New Roman"/>
              </a:rPr>
              <a:t>Janet Martine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23ff23"/>
                </a:solidFill>
                <a:latin typeface="Times New Roman"/>
              </a:rPr>
              <a:t>Gerardo “</a:t>
            </a:r>
            <a:r>
              <a:rPr b="1" lang="en-US" sz="3200" spc="-1" strike="noStrike">
                <a:solidFill>
                  <a:srgbClr val="23ff23"/>
                </a:solidFill>
                <a:latin typeface="Times New Roman"/>
              </a:rPr>
              <a:t>did nothing</a:t>
            </a:r>
            <a:r>
              <a:rPr b="0" lang="en-US" sz="3200" spc="-1" strike="noStrike">
                <a:solidFill>
                  <a:srgbClr val="23ff23"/>
                </a:solidFill>
                <a:latin typeface="Times New Roman"/>
              </a:rPr>
              <a:t>” Espinoz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458200" y="5943600"/>
            <a:ext cx="1371600" cy="1371600"/>
          </a:xfrm>
          <a:prstGeom prst="star5">
            <a:avLst/>
          </a:prstGeom>
          <a:solidFill>
            <a:srgbClr val="00458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0"/>
            <a:ext cx="1371600" cy="1371600"/>
          </a:xfrm>
          <a:prstGeom prst="star5">
            <a:avLst/>
          </a:prstGeom>
          <a:solidFill>
            <a:srgbClr val="00458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  <p:sndAc>
      <p:stSnd>
        <p:snd r:embed="rId2" name="applause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200400" y="2543040"/>
            <a:ext cx="3600360" cy="180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800080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THE END 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800080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3T16:04:06Z</dcterms:created>
  <dc:creator>Technology Services Spring Branch ISD</dc:creator>
  <dc:description/>
  <dc:language>en-US</dc:language>
  <cp:lastModifiedBy>Technology Services Spring Branch ISD</cp:lastModifiedBy>
  <dcterms:modified xsi:type="dcterms:W3CDTF">2011-06-15T14:35:46Z</dcterms:modified>
  <cp:revision>1</cp:revision>
  <dc:subject/>
  <dc:title/>
</cp:coreProperties>
</file>